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11333-1EAC-4E9F-9848-EFAC0954A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B1AF8-5FAD-4BB8-8DF2-02DA56756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6450F-B1B3-49CB-8F6A-59A91BE67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D1BA0-B31D-4F9C-8938-D25018564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BE9C53-4886-4556-BF73-48B2AB21A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A5F5F-706D-4AAC-BBD6-CEE03351B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5F394-9897-4841-AAFD-82196E702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51255-0F0D-4B1A-8E0F-45ED4EE59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9A167-C7FE-4760-8E30-9100E146E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28D01-7207-4E9A-8BFB-FF7C802CE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E76C3-FC7A-4023-B2A6-46DB60B1D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5C792-5AAE-4A87-88A1-377EBE153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A001A-E8F7-4DCB-A245-F3564251E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43EB9-FD65-429F-9ECB-E5212E296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5B876-C231-4A51-AE14-274025B00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8CD58-B77D-4B1C-9B44-E645863CD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096DE-AB3F-46FC-BFC9-6383973D3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C95B27-BA3D-47DB-9ED9-9DF4705FFA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983EC6-4FEF-4E6D-B8C8-4B91CDBD04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96C79B-3E08-4518-8AB6-49D3B3C8CF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E22543-295E-4CC2-84F1-CF5722999C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1D810E-77AC-48F4-8E84-A5C6FE9893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1DA9D-6150-4CC4-BD1B-A53F4725F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315DCA-998E-4693-9152-69083A960F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64398D-3675-4775-B250-8863DED69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898A1-924E-4853-A029-41B10FDB3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BACF7B-7E3C-42C8-9A80-8049E1926D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A51B09-A336-4925-B5A4-B2A5FCF2DA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D568AF-8CF9-4D3D-9865-C54D5C6E7F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ED212E-CB28-474C-B1B4-DA3287695C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F38AB0-36B9-4849-BDF8-07CFCC713B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EE0124-763C-4CD4-9DC9-BEB2835F68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457088-4484-417D-874A-69CEE97BD2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2F3F7-8252-4BD7-909A-D387F01A9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CF7CC5-3C1C-46F3-88A1-A6132392E2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33BF6C-7461-432A-BD47-21C58899FD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519B8E-E074-40D2-84F5-FE0389B1B5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114233-D94C-4130-A9FA-703992A08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4738C5-C378-4340-9324-30679BEDA1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D6F41-524D-4563-B3A7-657B52D518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A3CF84-861B-4357-8192-B072591BB9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4E14F4-183E-4AF1-8F58-9604C4EB2B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71CB74-3685-4F67-8E8D-146260273B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B25B7-FC03-46BD-B6AA-6F0EBFF78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B4E54-BC66-4222-8527-EB39A2957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FEA3C-B352-40FC-82DC-4F8106522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BA300-FA6F-4157-B24F-D5F15E386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4BDC1-6719-43DA-81D5-068E3DC5C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1216-DA2D-4A83-B051-76F69FA5F87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5912-477E-4BCF-9CE8-98EA6EF6994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CD07-9F43-4ACF-8831-A987680572F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7BDC-F9FD-4ED3-9D34-7CE965A8700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146160" y="1749600"/>
            <a:ext cx="8851680" cy="2955600"/>
          </a:xfrm>
          <a:prstGeom prst="rect">
            <a:avLst/>
          </a:prstGeom>
          <a:ln w="0">
            <a:noFill/>
          </a:ln>
        </p:spPr>
      </p:pic>
      <p:sp>
        <p:nvSpPr>
          <p:cNvPr id="196" name="PlaceHolder 1"/>
          <p:cNvSpPr>
            <a:spLocks noGrp="1"/>
          </p:cNvSpPr>
          <p:nvPr>
            <p:ph type="subTitle"/>
          </p:nvPr>
        </p:nvSpPr>
        <p:spPr>
          <a:xfrm>
            <a:off x="914400" y="990360"/>
            <a:ext cx="7772400" cy="517320"/>
          </a:xfrm>
          <a:prstGeom prst="rect">
            <a:avLst/>
          </a:prstGeom>
          <a:noFill/>
          <a:ln w="0">
            <a:noFill/>
          </a:ln>
        </p:spPr>
        <p:txBody>
          <a:bodyPr lIns="0" rIns="18360" tIns="46800" bIns="46800" anchor="ctr">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DPA 5307 : School Management and Technology </a:t>
            </a:r>
            <a:endParaRPr b="0" lang="en-US" sz="2600" spc="-1" strike="noStrike">
              <a:solidFill>
                <a:srgbClr val="ffffff"/>
              </a:solidFill>
              <a:latin typeface="Constantia"/>
            </a:endParaRPr>
          </a:p>
        </p:txBody>
      </p:sp>
      <p:sp>
        <p:nvSpPr>
          <p:cNvPr id="197" name="TextBox 4"/>
          <p:cNvSpPr/>
          <p:nvPr/>
        </p:nvSpPr>
        <p:spPr>
          <a:xfrm>
            <a:off x="2438280" y="5181480"/>
            <a:ext cx="426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rey Haugen</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tt Robinson</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ave Zuko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How often are trainings cumulative, building on past training and skills?</a:t>
            </a:r>
            <a:endParaRPr b="0" lang="en-US" sz="3600" spc="-1" strike="noStrike">
              <a:solidFill>
                <a:srgbClr val="04617b"/>
              </a:solidFill>
              <a:latin typeface="Calibri"/>
            </a:endParaRPr>
          </a:p>
        </p:txBody>
      </p:sp>
      <p:sp>
        <p:nvSpPr>
          <p:cNvPr id="217" name=""/>
          <p:cNvSpPr txBox="1"/>
          <p:nvPr/>
        </p:nvSpPr>
        <p:spPr>
          <a:xfrm>
            <a:off x="838080" y="1934640"/>
            <a:ext cx="784872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ange from None to Usual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general, the state of tech training in the survey sample does not do a great job of building on past train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are instances of introductory, intermediate, and advanced cour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t necessarily by design, but based on advancing technolog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TextBox 3"/>
          <p:cNvSpPr/>
          <p:nvPr/>
        </p:nvSpPr>
        <p:spPr>
          <a:xfrm>
            <a:off x="5562720" y="57913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rvey Summary #3</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What are the 2 or 3 most effective types of training your district has used?</a:t>
            </a:r>
            <a:endParaRPr b="0" lang="en-US" sz="3600" spc="-1" strike="noStrike">
              <a:solidFill>
                <a:srgbClr val="04617b"/>
              </a:solidFill>
              <a:latin typeface="Calibri"/>
            </a:endParaRPr>
          </a:p>
        </p:txBody>
      </p:sp>
      <p:sp>
        <p:nvSpPr>
          <p:cNvPr id="220" name=""/>
          <p:cNvSpPr txBox="1"/>
          <p:nvPr/>
        </p:nvSpPr>
        <p:spPr>
          <a:xfrm>
            <a:off x="838080" y="1934640"/>
            <a:ext cx="784872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mall group sess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nds-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Just in time” concept – teacher has a need no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District Technology Day(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llow-up or successive train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er-coaching/train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raining w/ ideas on how to apply in the classroo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TextBox 3"/>
          <p:cNvSpPr/>
          <p:nvPr/>
        </p:nvSpPr>
        <p:spPr>
          <a:xfrm>
            <a:off x="5562720" y="57913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rvey Summary #4</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Why were they most effective?</a:t>
            </a:r>
            <a:endParaRPr b="0" lang="en-US" sz="3600" spc="-1" strike="noStrike">
              <a:solidFill>
                <a:srgbClr val="04617b"/>
              </a:solidFill>
              <a:latin typeface="Calibri"/>
            </a:endParaRPr>
          </a:p>
        </p:txBody>
      </p:sp>
      <p:sp>
        <p:nvSpPr>
          <p:cNvPr id="223" name=""/>
          <p:cNvSpPr txBox="1"/>
          <p:nvPr/>
        </p:nvSpPr>
        <p:spPr>
          <a:xfrm>
            <a:off x="838080" y="1934640"/>
            <a:ext cx="784872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pportunity to use the skil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d “time” to pract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nds-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fortable when you know the trai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from do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llow-up is effective – gives you  a chance to ask questions you don’t know at the train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oice – pick a session that applies to yo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TextBox 3"/>
          <p:cNvSpPr/>
          <p:nvPr/>
        </p:nvSpPr>
        <p:spPr>
          <a:xfrm>
            <a:off x="5562720" y="57913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rvey Summary #5</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704520"/>
            <a:ext cx="83818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Which trainings have been most in-effective? Why?</a:t>
            </a:r>
            <a:endParaRPr b="0" lang="en-US" sz="3600" spc="-1" strike="noStrike">
              <a:solidFill>
                <a:srgbClr val="04617b"/>
              </a:solidFill>
              <a:latin typeface="Calibri"/>
            </a:endParaRPr>
          </a:p>
        </p:txBody>
      </p:sp>
      <p:sp>
        <p:nvSpPr>
          <p:cNvPr id="226" name=""/>
          <p:cNvSpPr txBox="1"/>
          <p:nvPr/>
        </p:nvSpPr>
        <p:spPr>
          <a:xfrm>
            <a:off x="838080" y="1934640"/>
            <a:ext cx="784872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n’t allow for enough “time” to use skil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ger group setting (more than 10 peop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ighly skilled techs – don’t teach wel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monstra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cture hall setting – no hands-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time trainings – no follow-u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nding people to workshop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TextBox 3"/>
          <p:cNvSpPr/>
          <p:nvPr/>
        </p:nvSpPr>
        <p:spPr>
          <a:xfrm>
            <a:off x="5562720" y="57913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rvey Summary #6</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704520"/>
            <a:ext cx="83818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What creative solutions has your district used to create ample time for training?</a:t>
            </a:r>
            <a:endParaRPr b="0" lang="en-US" sz="3600" spc="-1" strike="noStrike">
              <a:solidFill>
                <a:srgbClr val="04617b"/>
              </a:solidFill>
              <a:latin typeface="Calibri"/>
            </a:endParaRPr>
          </a:p>
        </p:txBody>
      </p:sp>
      <p:sp>
        <p:nvSpPr>
          <p:cNvPr id="229" name=""/>
          <p:cNvSpPr txBox="1"/>
          <p:nvPr/>
        </p:nvSpPr>
        <p:spPr>
          <a:xfrm>
            <a:off x="838080" y="1934640"/>
            <a:ext cx="784872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tituted late starts 6 times a ye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day tech training, with summer op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fore/After school training sess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omic Learn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mmer Tech Academy – (2 or 3 day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ff development day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quired training to use new technolog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TextBox 3"/>
          <p:cNvSpPr/>
          <p:nvPr/>
        </p:nvSpPr>
        <p:spPr>
          <a:xfrm>
            <a:off x="5562720" y="57913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rvey Summary #7</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704520"/>
            <a:ext cx="83818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What strategies has your district used that has successfully created buy-in by all stakeholders?</a:t>
            </a:r>
            <a:endParaRPr b="0" lang="en-US" sz="3200" spc="-1" strike="noStrike">
              <a:solidFill>
                <a:srgbClr val="04617b"/>
              </a:solidFill>
              <a:latin typeface="Calibri"/>
            </a:endParaRPr>
          </a:p>
        </p:txBody>
      </p:sp>
      <p:sp>
        <p:nvSpPr>
          <p:cNvPr id="232" name=""/>
          <p:cNvSpPr txBox="1"/>
          <p:nvPr/>
        </p:nvSpPr>
        <p:spPr>
          <a:xfrm>
            <a:off x="838080" y="1934640"/>
            <a:ext cx="784872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ided resources (hardware &amp; softwa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tent/discipline specific train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ow admin rights for teachers on comput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l classrooms, see how successful it can b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eds assessment, make training match nee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pervisor expec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TextBox 3"/>
          <p:cNvSpPr/>
          <p:nvPr/>
        </p:nvSpPr>
        <p:spPr>
          <a:xfrm>
            <a:off x="5562720" y="57913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rvey Summary #8</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ponse to Research Questions #1</a:t>
            </a:r>
            <a:endParaRPr b="0" lang="en-US" sz="4500" spc="-1" strike="noStrike">
              <a:solidFill>
                <a:srgbClr val="04617b"/>
              </a:solidFill>
              <a:latin typeface="Calibri"/>
            </a:endParaRPr>
          </a:p>
        </p:txBody>
      </p:sp>
      <p:sp>
        <p:nvSpPr>
          <p:cNvPr id="235" name=""/>
          <p:cNvSpPr txBox="1"/>
          <p:nvPr/>
        </p:nvSpPr>
        <p:spPr>
          <a:xfrm>
            <a:off x="457200" y="1523520"/>
            <a:ext cx="8229600" cy="4800600"/>
          </a:xfrm>
          <a:prstGeom prst="rect">
            <a:avLst/>
          </a:prstGeom>
          <a:noFill/>
          <a:ln w="0">
            <a:noFill/>
          </a:ln>
        </p:spPr>
        <p:txBody>
          <a:bodyPr lIns="90000" rIns="90000" tIns="46800" bIns="46800" anchor="t">
            <a:normAutofit fontScale="96000"/>
          </a:bodyPr>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kind of training do schools provide teachers when a new system is purchased? Is training time sufficient? How do teachers feel about the training they receive?</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e type of training can vary from district to district.  Most districts will us an in-house approach to training teachers.  When the new hardware or software is purchased, someone in-house becomes the local expert and trains the staff.   A “lack of time” was sensed in the surveys when it came to technology training.  It appears that most districts will give an initial introduction on how to use the technology, but follow-up is not too common.</a:t>
            </a:r>
            <a:endParaRPr b="0" lang="en-US" sz="1600" spc="-1" strike="noStrike">
              <a:solidFill>
                <a:srgbClr val="000000"/>
              </a:solidFill>
              <a:latin typeface="Constantia"/>
            </a:endParaRPr>
          </a:p>
          <a:p>
            <a:pPr marL="261720" indent="-26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verall, we sense that there are instances where teachers walk away happy with their “short” time spent on tech training, but most of the time, I believe it happens too fast without any formal follow-up to see how they are doing.  With the constant state of change with technology, it is important to begin to follow-up with teachers and make sure they aren’t falling off the speeding wagon of technology…</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ponse to Research Questions #2</a:t>
            </a:r>
            <a:endParaRPr b="0" lang="en-US" sz="4500" spc="-1" strike="noStrike">
              <a:solidFill>
                <a:srgbClr val="04617b"/>
              </a:solidFill>
              <a:latin typeface="Calibri"/>
            </a:endParaRPr>
          </a:p>
        </p:txBody>
      </p:sp>
      <p:sp>
        <p:nvSpPr>
          <p:cNvPr id="237"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training methods have people found to be most effective in implementing new technologi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Based on our survey results, the most effective training methods would consist of the following variables:</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1.  Small group setting (10 – 15 people max)</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2.  Hands-on, must take place with technology in use.</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3.  Taught by someone who is knowledgeable and can apply it (on-site), not the </a:t>
            </a: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vendors “expert”.</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4.   Follow-up, must have an opportunity to learn, apply knowledge, and find</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questions and be able to bring that back for answers.</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5.  Allow for time.  If it is important to implement, provide time!</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ponse to Research Questions #3</a:t>
            </a:r>
            <a:endParaRPr b="0" lang="en-US" sz="4500" spc="-1" strike="noStrike">
              <a:solidFill>
                <a:srgbClr val="04617b"/>
              </a:solidFill>
              <a:latin typeface="Calibri"/>
            </a:endParaRPr>
          </a:p>
        </p:txBody>
      </p:sp>
      <p:sp>
        <p:nvSpPr>
          <p:cNvPr id="239" name=""/>
          <p:cNvSpPr txBox="1"/>
          <p:nvPr/>
        </p:nvSpPr>
        <p:spPr>
          <a:xfrm>
            <a:off x="457200" y="1523520"/>
            <a:ext cx="8229600" cy="4800600"/>
          </a:xfrm>
          <a:prstGeom prst="rect">
            <a:avLst/>
          </a:prstGeom>
          <a:noFill/>
          <a:ln w="0">
            <a:noFill/>
          </a:ln>
        </p:spPr>
        <p:txBody>
          <a:bodyPr lIns="90000" rIns="90000" tIns="46800" bIns="46800" anchor="t">
            <a:normAutofit fontScale="94000"/>
          </a:bodyPr>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staff development occur in an on-line format such as this course?</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ere are districts out there that use an on-line format for some staff development.  The common choice for this tool is Atomic Learning.  Atomic Learning provides web-based software training for more than 100 applications.  This can be a powerful tool for districts, however, we see a couple potential problems with these types of applications.  </a:t>
            </a:r>
            <a:endParaRPr b="0" lang="en-US" sz="1600" spc="-1" strike="noStrike">
              <a:solidFill>
                <a:srgbClr val="000000"/>
              </a:solidFill>
              <a:latin typeface="Constantia"/>
            </a:endParaRPr>
          </a:p>
          <a:p>
            <a:pPr marL="256320" indent="-256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1.  No human component, doesn’t allow for the questioning that may come forth</a:t>
            </a:r>
            <a:endParaRPr b="0" lang="en-US" sz="1600" spc="-1" strike="noStrike">
              <a:solidFill>
                <a:srgbClr val="000000"/>
              </a:solidFill>
              <a:latin typeface="Constantia"/>
            </a:endParaRPr>
          </a:p>
          <a:p>
            <a:pPr marL="256320" indent="-256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during a in-house training.</a:t>
            </a:r>
            <a:endParaRPr b="0" lang="en-US" sz="1600" spc="-1" strike="noStrike">
              <a:solidFill>
                <a:srgbClr val="000000"/>
              </a:solidFill>
              <a:latin typeface="Constantia"/>
            </a:endParaRPr>
          </a:p>
          <a:p>
            <a:pPr marL="256320" indent="-256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2.  Doesn’t give you ideas on how to apply knowledge to classroom content.</a:t>
            </a:r>
            <a:endParaRPr b="0" lang="en-US" sz="1600" spc="-1" strike="noStrike">
              <a:solidFill>
                <a:srgbClr val="000000"/>
              </a:solidFill>
              <a:latin typeface="Constantia"/>
            </a:endParaRPr>
          </a:p>
          <a:p>
            <a:pPr marL="256320" indent="-256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3.  Time – when will teachers have time to do it.  The idea is for them to have the</a:t>
            </a:r>
            <a:endParaRPr b="0" lang="en-US" sz="1600" spc="-1" strike="noStrike">
              <a:solidFill>
                <a:srgbClr val="000000"/>
              </a:solidFill>
              <a:latin typeface="Constantia"/>
            </a:endParaRPr>
          </a:p>
          <a:p>
            <a:pPr marL="256320" indent="-256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opportunity to use it anytime they have a minute, but without any</a:t>
            </a:r>
            <a:endParaRPr b="0" lang="en-US" sz="1600" spc="-1" strike="noStrike">
              <a:solidFill>
                <a:srgbClr val="000000"/>
              </a:solidFill>
              <a:latin typeface="Constantia"/>
            </a:endParaRPr>
          </a:p>
          <a:p>
            <a:pPr marL="256320" indent="-256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requirements, how many teachers will use i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ponse to Research Questions #4</a:t>
            </a:r>
            <a:endParaRPr b="0" lang="en-US" sz="4500" spc="-1" strike="noStrike">
              <a:solidFill>
                <a:srgbClr val="04617b"/>
              </a:solidFill>
              <a:latin typeface="Calibri"/>
            </a:endParaRPr>
          </a:p>
        </p:txBody>
      </p:sp>
      <p:sp>
        <p:nvSpPr>
          <p:cNvPr id="241"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staff development works the best with very diverse skill levels?  What about training a frequently changing staff?</a:t>
            </a:r>
            <a:endParaRPr b="0" lang="en-US" sz="2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ifferentiation is important in staff development, just as it is important in the classroom.  It is important to offer technology trainings that can encompass all different abilities.  One important trait to effective trainings, is to keep the groups small.  With that in mind, you can ability group your trainings, or use your resident experts to train the beginners.</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Most districts with high turn-over have trainings at the start of the school year for new teachers to get them familiar with technology systems.  The biggest problem that we recognized is that follow-up from this initial training is limited to non-existent for these new teachers.  That is something that needs to be addressed if it is occurring in your distric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bjective</a:t>
            </a:r>
            <a:endParaRPr b="0" lang="en-US" sz="50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9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intended purpose of this study was to investigate Technology Training Methods and Effectiveness from different school districts throughout the state of Minnesota.</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ponse to Research Questions #5</a:t>
            </a:r>
            <a:endParaRPr b="0" lang="en-US" sz="4500" spc="-1" strike="noStrike">
              <a:solidFill>
                <a:srgbClr val="04617b"/>
              </a:solidFill>
              <a:latin typeface="Calibri"/>
            </a:endParaRPr>
          </a:p>
        </p:txBody>
      </p:sp>
      <p:sp>
        <p:nvSpPr>
          <p:cNvPr id="243"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you train all stakeholders on multiple tools so that all can be seamlessly integrated?  Often this seems counter to training on more educational aspects.</a:t>
            </a:r>
            <a:endParaRPr b="0" lang="en-US" sz="2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Based on our survey results, it appears that the “model classroom/teacher” has the greatest impact on stakeholder buy-in.  If the stakeholder can see the success that technology integration has on a successful classroom, they will want to implement those same concepts.  It may also be helpful to create an in-house list of trainers that  are the resident “masters” on those tools.  This will create an environment where follow-up can be addressed easily.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ponse to Research Questions #6</a:t>
            </a:r>
            <a:endParaRPr b="0" lang="en-US" sz="4500" spc="-1" strike="noStrike">
              <a:solidFill>
                <a:srgbClr val="04617b"/>
              </a:solidFill>
              <a:latin typeface="Calibri"/>
            </a:endParaRPr>
          </a:p>
        </p:txBody>
      </p:sp>
      <p:sp>
        <p:nvSpPr>
          <p:cNvPr id="245"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you get non-tech people interested in the process at all, when it will affect their daily lives?</a:t>
            </a:r>
            <a:endParaRPr b="0" lang="en-US" sz="2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e non-tech people that need a boost to get going need to see a successful model classroom.  Allow these non-tech people to get out of their classroom and visit a classroom that is enriched with technology and how it can impact student success.</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We also believe that it is very important that when the district considers staff development, that these individuals must have safe, non-threatening environments to learn in.  If they are sitting next to an “expert”, then they won’t ask the questions that they need to, so they can enhance their own learning.  </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ponse to Research Questions #7</a:t>
            </a:r>
            <a:endParaRPr b="0" lang="en-US" sz="4500" spc="-1" strike="noStrike">
              <a:solidFill>
                <a:srgbClr val="04617b"/>
              </a:solidFill>
              <a:latin typeface="Calibri"/>
            </a:endParaRPr>
          </a:p>
        </p:txBody>
      </p:sp>
      <p:sp>
        <p:nvSpPr>
          <p:cNvPr id="247"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you get teachers who are feeling pressed for time and overworked to get excited and motivated to integrate new technology into the classroom?</a:t>
            </a:r>
            <a:endParaRPr b="0" lang="en-US" sz="2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e notion that being pressed for time is interesting…  Teachers are pressed for time, no doubt!  However, every passing minute puts these teachers further behind.  Technology is advancing exponentially and using excuses doesn’t work anymore.  Non-the-less, this is a valid argument.  Due to the fact there is a limit to the number of minutes in a day, I would suggest that you try a recommendation from David Warlick.   Sub out these “pressed” teacher and give them one on one or small group instruction on how technology integration can enhance their classroom and improve student achievement.  </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ponse to Research Questions #8</a:t>
            </a:r>
            <a:endParaRPr b="0" lang="en-US" sz="4500" spc="-1" strike="noStrike">
              <a:solidFill>
                <a:srgbClr val="04617b"/>
              </a:solidFill>
              <a:latin typeface="Calibri"/>
            </a:endParaRPr>
          </a:p>
        </p:txBody>
      </p:sp>
      <p:sp>
        <p:nvSpPr>
          <p:cNvPr id="249"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instructors stay current on copyright and privacy issues affected by new technologies?</a:t>
            </a:r>
            <a:endParaRPr b="0" lang="en-US" sz="2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is is a very good question.  I would suggest that teachers begin by communicating concerns with their technology directors to make sure that you have the appropriate license to operate the software.</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 very interesting article regarding this issue is below:</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opyright and K-12:  Who pays in the Network Era?</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By David H. Rothman</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t>
            </a:r>
            <a:r>
              <a:rPr b="0" lang="en-US" sz="1600" spc="-1" strike="noStrike">
                <a:solidFill>
                  <a:srgbClr val="000000"/>
                </a:solidFill>
                <a:latin typeface="Constantia"/>
              </a:rPr>
              <a:t>American public schools are spending less than three percent of their budgets each year on textbooks and other copyrighted works--approximately $5.4 billion out of current expenditures of well over $200 billion. Many teachers and students are either doing without the material or pirating it. One study found that some 32 percent of 1,349 participants had illegally copied software, a finding consistent with an informal survey for this paper.”</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304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UMMARY</a:t>
            </a:r>
            <a:endParaRPr b="0" lang="en-US" sz="5000" spc="-1" strike="noStrike">
              <a:solidFill>
                <a:srgbClr val="04617b"/>
              </a:solidFill>
              <a:latin typeface="Calibri"/>
            </a:endParaRPr>
          </a:p>
        </p:txBody>
      </p:sp>
      <p:sp>
        <p:nvSpPr>
          <p:cNvPr id="251" name=""/>
          <p:cNvSpPr txBox="1"/>
          <p:nvPr/>
        </p:nvSpPr>
        <p:spPr>
          <a:xfrm>
            <a:off x="457200" y="1676160"/>
            <a:ext cx="8229600" cy="46479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 Essential Characteristics of Effective Technology Staff Developme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2" marL="1181160" indent="-514440">
              <a:spcBef>
                <a:spcPts val="524"/>
              </a:spcBef>
              <a:buClr>
                <a:srgbClr val="009dd9"/>
              </a:buClr>
              <a:buSzPct val="70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ands-on training.</a:t>
            </a:r>
            <a:endParaRPr b="0" lang="en-US" sz="2100" spc="-1" strike="noStrike">
              <a:solidFill>
                <a:srgbClr val="000000"/>
              </a:solidFill>
              <a:latin typeface="Constantia"/>
            </a:endParaRPr>
          </a:p>
          <a:p>
            <a:pPr lvl="2" marL="1181160" indent="-514440">
              <a:spcBef>
                <a:spcPts val="524"/>
              </a:spcBef>
              <a:buClr>
                <a:srgbClr val="009dd9"/>
              </a:buClr>
              <a:buSzPct val="70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mall Group Setting. (10-15 people max)</a:t>
            </a:r>
            <a:endParaRPr b="0" lang="en-US" sz="2100" spc="-1" strike="noStrike">
              <a:solidFill>
                <a:srgbClr val="000000"/>
              </a:solidFill>
              <a:latin typeface="Constantia"/>
            </a:endParaRPr>
          </a:p>
          <a:p>
            <a:pPr lvl="2" marL="1181160" indent="-514440">
              <a:spcBef>
                <a:spcPts val="524"/>
              </a:spcBef>
              <a:buClr>
                <a:srgbClr val="009dd9"/>
              </a:buClr>
              <a:buSzPct val="70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mple time for training/questions/practice.</a:t>
            </a:r>
            <a:endParaRPr b="0" lang="en-US" sz="2100" spc="-1" strike="noStrike">
              <a:solidFill>
                <a:srgbClr val="000000"/>
              </a:solidFill>
              <a:latin typeface="Constantia"/>
            </a:endParaRPr>
          </a:p>
          <a:p>
            <a:pPr lvl="2" marL="1181160" indent="-514440">
              <a:spcBef>
                <a:spcPts val="524"/>
              </a:spcBef>
              <a:buClr>
                <a:srgbClr val="009dd9"/>
              </a:buClr>
              <a:buSzPct val="70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aught by someone in-house who is knowledgeable.</a:t>
            </a:r>
            <a:endParaRPr b="0" lang="en-US" sz="2100" spc="-1" strike="noStrike">
              <a:solidFill>
                <a:srgbClr val="000000"/>
              </a:solidFill>
              <a:latin typeface="Constantia"/>
            </a:endParaRPr>
          </a:p>
          <a:p>
            <a:pPr lvl="2" marL="1181160" indent="-514440">
              <a:spcBef>
                <a:spcPts val="524"/>
              </a:spcBef>
              <a:buClr>
                <a:srgbClr val="009dd9"/>
              </a:buClr>
              <a:buSzPct val="70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pplicable to current curriculum/content/assignment.</a:t>
            </a:r>
            <a:endParaRPr b="0" lang="en-US" sz="2100" spc="-1" strike="noStrike">
              <a:solidFill>
                <a:srgbClr val="000000"/>
              </a:solidFill>
              <a:latin typeface="Constantia"/>
            </a:endParaRPr>
          </a:p>
          <a:p>
            <a:pPr lvl="2" marL="1181160" indent="-514440">
              <a:spcBef>
                <a:spcPts val="524"/>
              </a:spcBef>
              <a:buClr>
                <a:srgbClr val="009dd9"/>
              </a:buClr>
              <a:buSzPct val="70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Follow-up at a later date to reinforce learning.</a:t>
            </a:r>
            <a:endParaRPr b="0" lang="en-US" sz="2100" spc="-1" strike="noStrike">
              <a:solidFill>
                <a:srgbClr val="000000"/>
              </a:solidFill>
              <a:latin typeface="Constantia"/>
            </a:endParaRPr>
          </a:p>
          <a:p>
            <a:pPr lvl="2" marL="1181160" indent="-514440">
              <a:spcBef>
                <a:spcPts val="524"/>
              </a:spcBef>
              <a:buClr>
                <a:srgbClr val="009dd9"/>
              </a:buClr>
              <a:buSzPct val="70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905120" y="704520"/>
            <a:ext cx="67816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a:t>
            </a:r>
            <a:endParaRPr b="0" lang="en-US" sz="5000" spc="-1" strike="noStrike">
              <a:solidFill>
                <a:srgbClr val="04617b"/>
              </a:solidFill>
              <a:latin typeface="Calibri"/>
            </a:endParaRPr>
          </a:p>
        </p:txBody>
      </p:sp>
      <p:sp>
        <p:nvSpPr>
          <p:cNvPr id="253" name=""/>
          <p:cNvSpPr txBox="1"/>
          <p:nvPr/>
        </p:nvSpPr>
        <p:spPr>
          <a:xfrm>
            <a:off x="2133720" y="1904760"/>
            <a:ext cx="41148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Responses #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Responses #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Responses #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Responses #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Responses #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Responses #6</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Responses #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Responses #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456840"/>
            <a:ext cx="830556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 Survey Responses #1</a:t>
            </a:r>
            <a:endParaRPr b="0" lang="en-US" sz="5000" spc="-1" strike="noStrike">
              <a:solidFill>
                <a:srgbClr val="04617b"/>
              </a:solidFill>
              <a:latin typeface="Calibri"/>
            </a:endParaRPr>
          </a:p>
        </p:txBody>
      </p:sp>
      <p:sp>
        <p:nvSpPr>
          <p:cNvPr id="255" name=""/>
          <p:cNvSpPr txBox="1"/>
          <p:nvPr/>
        </p:nvSpPr>
        <p:spPr>
          <a:xfrm>
            <a:off x="228240" y="1218960"/>
            <a:ext cx="8915400" cy="563868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ow does your district build trainings that support new technologies.</a:t>
            </a:r>
            <a:endParaRPr b="0" lang="en-US" sz="18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 Mostly through our tech coordinator at the building level. They offer training outside of school hour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 Staff Development/Technology Day, Options for after school courses, On-line options (Atomiclearning.com), and provides pay-day Mac tips (a variety of tips for using Macs are e-mailed out to subscriber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 I don’t know</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 Trainings and technology implementation is most often part of our curriculum review process. Technology is identified to help address curriculum standards for each discipline and training is built to address those technologi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e) E-mail, Word-of-mouth, Strong Tech Support staff, Staff development input</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f) Teachers must have 4 hours of initial training before they can use the equipment. These are paid training conducted in house. Follow up contact and training follow during the school year.</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 Train the trainers model, initial trainings done by outside personnel (MAP testing, Just 5 Clicks, etc.), AWE classes taught by “resident expert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h) Typically a member of my staff will develop handouts that illustrate the technology. We usually offer large-group instruction and provide the handouts for later reference.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 New teacher required training and optional ongoing staff training… primarily after school or summer academies. [Principal - Wayzata]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j) We have a train the trainer system. Also, a staff person who has demonstrated an excellence an area is asked to teach a clas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k) On the fly - as needed. We subscribe to Atomic Learning for self-directed help. Bldg computer coord's are supposed to provide JIT training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l) Through the district technology committee, district staff development committe and will help from the media specialis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 We are relying on the TIES coop for training. If they don't support new tech, the vendors are expected to provide some. Some in-house.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n) Workshops on early release days, access to atomic learning.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o) Build into inservice day. This happens usually at the beginning of the year.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p) New technologies are recieved, configured and tested. Training is then developed based upon the type of technology and who will use i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q) New teacher trainings as teachers enter the district so they are up-to-speed on current applications. Technology courses offered during our summer institute session (2 days in August). Various options throughout the year for teachers to elect to attend based on need.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040" y="456840"/>
            <a:ext cx="838188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 Survey Responses #2</a:t>
            </a:r>
            <a:endParaRPr b="0" lang="en-US" sz="5000" spc="-1" strike="noStrike">
              <a:solidFill>
                <a:srgbClr val="04617b"/>
              </a:solidFill>
              <a:latin typeface="Calibri"/>
            </a:endParaRPr>
          </a:p>
        </p:txBody>
      </p:sp>
      <p:sp>
        <p:nvSpPr>
          <p:cNvPr id="257" name=""/>
          <p:cNvSpPr txBox="1"/>
          <p:nvPr/>
        </p:nvSpPr>
        <p:spPr>
          <a:xfrm>
            <a:off x="609120" y="1218960"/>
            <a:ext cx="8534520" cy="5638680"/>
          </a:xfrm>
          <a:prstGeom prst="rect">
            <a:avLst/>
          </a:prstGeom>
          <a:noFill/>
          <a:ln w="0">
            <a:noFill/>
          </a:ln>
        </p:spPr>
        <p:txBody>
          <a:bodyPr lIns="90000" rIns="90000" tIns="46800" bIns="46800" anchor="t">
            <a:normAutofit fontScale="99000"/>
          </a:bodyPr>
          <a:p>
            <a:pPr marL="270000" indent="-2700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What percentage of trainings are in-house?</a:t>
            </a:r>
            <a:endParaRPr b="0" lang="en-US" sz="27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Roughly 75%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 95%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 90%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 80%-90%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 90%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 99%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 85%? Training for non-certified staff may inflate this value.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 95%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 90 % are within the district / 10% are within the building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j) Of the courses I have taken, 95%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 Almost all. Our Dir. of Tech. also provides trainings and the bldg coord's go to TIES to bring back new ideas and then implement them.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 90%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 Small amounts. Last grade book product had 2 hours of training in-house.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 100% (with the exception of some assistive tech training which has been done by software company.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 95% approximately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 Approx 90% of out training on new technologies is done in-house.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q) 90% or more!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90360" y="456840"/>
            <a:ext cx="830556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 Survey Responses #3</a:t>
            </a:r>
            <a:endParaRPr b="0" lang="en-US" sz="5000" spc="-1" strike="noStrike">
              <a:solidFill>
                <a:srgbClr val="04617b"/>
              </a:solidFill>
              <a:latin typeface="Calibri"/>
            </a:endParaRPr>
          </a:p>
        </p:txBody>
      </p:sp>
      <p:sp>
        <p:nvSpPr>
          <p:cNvPr id="259" name=""/>
          <p:cNvSpPr txBox="1"/>
          <p:nvPr/>
        </p:nvSpPr>
        <p:spPr>
          <a:xfrm>
            <a:off x="609120" y="1218960"/>
            <a:ext cx="8534520" cy="5638680"/>
          </a:xfrm>
          <a:prstGeom prst="rect">
            <a:avLst/>
          </a:prstGeom>
          <a:noFill/>
          <a:ln w="0">
            <a:noFill/>
          </a:ln>
        </p:spPr>
        <p:txBody>
          <a:bodyPr lIns="90000" rIns="90000" tIns="46800" bIns="46800" anchor="t">
            <a:normAutofit/>
          </a:bodyPr>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How often are trainings cumulative, building on past trainings and skills?</a:t>
            </a:r>
            <a:endParaRPr b="0" lang="en-US" sz="21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Not often, but they are available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b) Options are available, but not required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c) 75%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d) Quite often. Our staff skills have progressed significantly since our laptop initiative 4 years ago. The most impressive technology integration often involves multiple technology skills, so our training frequently revisits, reinforces or requires prior skill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e) 1/2 the time. It depends on the training. If you have had training in the first of the series, then you can move on to the second portion of the serie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f) The plan is to have follow up training every three months depending on teachers needs. I go to schools once a month to meet with teachers individually.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g) Recently, this has become a much more common practice.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 Rarely. Most of our training is about specific technologies on an as needed basi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i) Many classes will have an intro, intermediate, and advanced option. Independent classes on Atomic Learning.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j) I would say 40-50%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k) I would assuem alway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l) About 50%.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m) None.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 Rarely.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o) Usually, not necessarily by design, but based on advancing knowledge technology.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 Trainings are not ver often cumulative.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q) Rarely - we sometimes will have a follow-up session, but are currently working on developing subsequent courses to address this issue.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456840"/>
            <a:ext cx="838188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 Survey Responses #4</a:t>
            </a:r>
            <a:endParaRPr b="0" lang="en-US" sz="5000" spc="-1" strike="noStrike">
              <a:solidFill>
                <a:srgbClr val="04617b"/>
              </a:solidFill>
              <a:latin typeface="Calibri"/>
            </a:endParaRPr>
          </a:p>
        </p:txBody>
      </p:sp>
      <p:sp>
        <p:nvSpPr>
          <p:cNvPr id="261" name=""/>
          <p:cNvSpPr txBox="1"/>
          <p:nvPr/>
        </p:nvSpPr>
        <p:spPr>
          <a:xfrm>
            <a:off x="228240" y="1218960"/>
            <a:ext cx="8915400" cy="563868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What are the 2 or 3 most effective types of trainings your district has used?</a:t>
            </a:r>
            <a:endParaRPr b="0" lang="en-US" sz="18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 The most effective for me are the longer-term training that last multiple times so we can use the skills multiple tim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 Small group sessions, Hands-on (bring your own computer), Summer options (longer training)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 Technology Day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 1:Training provided on a “just in time” basis. i.e., a teacher has a need and is, therefore, very motivated to learn to apply a technology to his/her problem. 2:The technology integration specialist teaches a lesson to one or more of the teacher’s classes using the new technology. The teacher takes over and teaches the same lesson to his/her subsequent classes. The integration specialist may stay to assist with those classes. 3:A group of teachers plan an interdisciplinary lesson that integrates a new technology. The teachers learn the new technology together.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e) All district technology day, After school trainings, Saturday training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f) Academy of Wayzata Educators classes, Smart Board Training, Moodle Training, These were all done in-house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 - Large group, HANDS ON training for new technology (let’s all learn together as a grade level team or building) - training done in the buildings at a time when it is needed mos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h) One-on-one mentoring is always best. Every staff member who gets a new computers gets a certificate redeemable for an hour of personalized training on a topic of their choice. We’re also experimenting with creating screencasts for some of our specialized system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 Building based training with follow up, model classroom training because of follow up. Academy class with teams of teacher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j) Trainings that show me and require me to integrate what I have learned into my daily work. Trainings that allow peers to share ideas. Trainings that are spread out over a period of time.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k) SmartBoard is going well; MAP training went well; Gradequick continues to run well.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l) Peer coaching peers, topic centered training.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 The gradebook training worked well. 1 hour of talk and hand-on demos, with another hour of individual follow up.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n) Hands on, product driven - making a powerpoint using digital camera vs teaching them as isolated skills, teaching skills that can be used with student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o) Curriculum Mapper, Podcasting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p) Instructor lead group training and one-onone mentoring with hands-on.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q) Hands-on small group trainings. The more personal you can make the training the better. It also has to be applicable to teacher and classroom use. </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80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search Questions</a:t>
            </a:r>
            <a:endParaRPr b="0" lang="en-US" sz="5000" spc="-1" strike="noStrike">
              <a:solidFill>
                <a:srgbClr val="04617b"/>
              </a:solidFill>
              <a:latin typeface="Calibri"/>
            </a:endParaRPr>
          </a:p>
        </p:txBody>
      </p:sp>
      <p:sp>
        <p:nvSpPr>
          <p:cNvPr id="201" name=""/>
          <p:cNvSpPr txBox="1"/>
          <p:nvPr/>
        </p:nvSpPr>
        <p:spPr>
          <a:xfrm>
            <a:off x="0" y="1599840"/>
            <a:ext cx="9144000" cy="5257800"/>
          </a:xfrm>
          <a:prstGeom prst="rect">
            <a:avLst/>
          </a:prstGeom>
          <a:noFill/>
          <a:ln w="0">
            <a:noFill/>
          </a:ln>
        </p:spPr>
        <p:txBody>
          <a:bodyPr lIns="90000" rIns="90000" tIns="46800" bIns="46800" anchor="t">
            <a:normAutofit/>
          </a:bodyPr>
          <a:p>
            <a:pPr marL="65088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kind of training do schools provide teachers when a new system is purchased? Is training time sufficient? How do teachers feel about the training they receive? </a:t>
            </a:r>
            <a:endParaRPr b="0" lang="en-US" sz="2600" spc="-1" strike="noStrike">
              <a:solidFill>
                <a:srgbClr val="000000"/>
              </a:solidFill>
              <a:latin typeface="Constantia"/>
            </a:endParaRPr>
          </a:p>
          <a:p>
            <a:pPr marL="65088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training methods have people found to be most effective in implementing new technologies? </a:t>
            </a:r>
            <a:endParaRPr b="0" lang="en-US" sz="2600" spc="-1" strike="noStrike">
              <a:solidFill>
                <a:srgbClr val="000000"/>
              </a:solidFill>
              <a:latin typeface="Constantia"/>
            </a:endParaRPr>
          </a:p>
          <a:p>
            <a:pPr marL="65088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staff development occur in an online format such as this course?</a:t>
            </a:r>
            <a:endParaRPr b="0" lang="en-US" sz="2600" spc="-1" strike="noStrike">
              <a:solidFill>
                <a:srgbClr val="000000"/>
              </a:solidFill>
              <a:latin typeface="Constantia"/>
            </a:endParaRPr>
          </a:p>
          <a:p>
            <a:pPr marL="65088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staff development works the best with very diverse skill levels? What about training a frequently changing staff?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456840"/>
            <a:ext cx="84582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 Survey Responses #5</a:t>
            </a:r>
            <a:endParaRPr b="0" lang="en-US" sz="5000" spc="-1" strike="noStrike">
              <a:solidFill>
                <a:srgbClr val="04617b"/>
              </a:solidFill>
              <a:latin typeface="Calibri"/>
            </a:endParaRPr>
          </a:p>
        </p:txBody>
      </p:sp>
      <p:sp>
        <p:nvSpPr>
          <p:cNvPr id="263" name=""/>
          <p:cNvSpPr txBox="1"/>
          <p:nvPr/>
        </p:nvSpPr>
        <p:spPr>
          <a:xfrm>
            <a:off x="228240" y="1218960"/>
            <a:ext cx="8915400" cy="563868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Why were they most effective?</a:t>
            </a:r>
            <a:endParaRPr b="0" lang="en-US" sz="18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 Many opportunities to use the skill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 Because you had “time” to practice the skills and process the information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 Given a choice of different sessions that applied to your area of teaching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 When the teacher perceives a need (#1 and #3 above), motivation is high and successful implementation is more likely. Modeling (#2 above) is always an effective way to help a teacher feel comfortable with a new skill. Having an extra pair of hands in the classroom during a new technology initiative makes success more likely. A negative first experience with a new technology can sometimes extinguish teacher enthusiasm for a second effor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e) Staff attend trainings most desirable to their interests. Training is tailored to individual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f) Teachers really were interested in the subject matter and the instructors are experts at using the tools and software that were used during the training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 Hands on is always best, people are more comfortable with instructors they know. Timeliness is very important as well.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h) Staff members always prefer to ask their questions in more intimate settings. They’re just like students; they don’t want to appear dumb in front of their peers. The screencasts are good because people can follow along and repeat them as often as needed.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 The follow up and suppor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j) We learn from doing. It also helps that we can work with peers and share ideas. If I go to a one-time only training, I usually store the info I have learned. I go to a class and I use what I have learned.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k) SmartBoard - because it's cool, new, and carries a SmartBoard with it. MAP because we subbed out and did everyone in small, like groups. GQ - desperation - to be used asap.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l) Training from people with skills in job related area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 The chance to follow-up made it effective. Individuals had many needs and appreciated the chance to ask their question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n) Applicable, relevant, active participation by the learner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o) Most people attended and saw relevance.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p) Knowledgeable instructor who can answer questions as needed while the "student" actually performs the task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q) The learners are able to immediately apply their knowledge and inquire about questions right away. </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456840"/>
            <a:ext cx="84582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 Survey Responses #6</a:t>
            </a:r>
            <a:endParaRPr b="0" lang="en-US" sz="5000" spc="-1" strike="noStrike">
              <a:solidFill>
                <a:srgbClr val="04617b"/>
              </a:solidFill>
              <a:latin typeface="Calibri"/>
            </a:endParaRPr>
          </a:p>
        </p:txBody>
      </p:sp>
      <p:sp>
        <p:nvSpPr>
          <p:cNvPr id="265" name=""/>
          <p:cNvSpPr txBox="1"/>
          <p:nvPr/>
        </p:nvSpPr>
        <p:spPr>
          <a:xfrm>
            <a:off x="228240" y="1218960"/>
            <a:ext cx="8915400" cy="5638680"/>
          </a:xfrm>
          <a:prstGeom prst="rect">
            <a:avLst/>
          </a:prstGeom>
          <a:noFill/>
          <a:ln w="0">
            <a:noFill/>
          </a:ln>
        </p:spPr>
        <p:txBody>
          <a:bodyPr lIns="90000" rIns="90000" tIns="46800" bIns="46800" anchor="t">
            <a:normAutofit/>
          </a:bodyPr>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Which trainings have been most ineffective?  Why?</a:t>
            </a:r>
            <a:endParaRPr b="0" lang="en-US" sz="21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Generally, the ones that don’t allow for enough time to use the skill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b) Larger group training (more than 10 people)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c) When highly skilled technicians do not teach well (to those who aren’t as highly skilled teacher) – pacing, some people go way too fast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d) Large group training with little or no personal follow-up generally only works for the more advanced users (who probably could have learned on their own anyway).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e) One-size-fits-all model. If it isn't always appropriate nor timely for staff.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f) All training has had an impact on student learning. The first moodle training was the weakest class. I did not give teachers enough time and practice. I went over the moodle modules to quickly. We have correct that by having a 10 hour class (5 days x 2 hours) instead a 2-4 hour clas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g) Reading through materials with no hands on opportunities – training done long before the tech actually arrive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 Large-group instruction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i) One time training… especially when the training is before the new program, computer etc.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j) For me it is the one shot training. An hour before school or on a professional development day. I think what I learn is great but I rarely us it in my everyday work.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k) Excel, ect. - nice to know tools but now immediate implementation.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l) Sending people away to one day workshop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m) We have had some demos that were presented in a lecture hall setting. No hands-on, no follow-up make for poor learning.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 Demonstrations, not being able to apply it immediately to job or use with student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o) Ones mid-year or toward the end of the year.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 Lack of hands-on training. Hands-on encourages quesitons and reinforces the lesson. Without hands-on, there are less questions and no reinforcement.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q) Lecture sessions - just to expose everybody to it! </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456840"/>
            <a:ext cx="838188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 Survey Responses #7</a:t>
            </a:r>
            <a:endParaRPr b="0" lang="en-US" sz="5000" spc="-1" strike="noStrike">
              <a:solidFill>
                <a:srgbClr val="04617b"/>
              </a:solidFill>
              <a:latin typeface="Calibri"/>
            </a:endParaRPr>
          </a:p>
        </p:txBody>
      </p:sp>
      <p:sp>
        <p:nvSpPr>
          <p:cNvPr id="267" name=""/>
          <p:cNvSpPr txBox="1"/>
          <p:nvPr/>
        </p:nvSpPr>
        <p:spPr>
          <a:xfrm>
            <a:off x="228240" y="1218960"/>
            <a:ext cx="8915400" cy="563868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What creative solutions has your district used to create ample time for training?</a:t>
            </a:r>
            <a:endParaRPr b="0" lang="en-US" sz="18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 We have instituted late starts 6 times a year.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 The all-day tech training, Summer option, Classes at ti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 Tech day. After school opportuniti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 We use before/after school sessions, Saturday sessions, dedicated workshop days and summer academies. We also subscribe to online training (Atomic Learning). Before budget restrictions forced us to cut our middle school teams, teachers used one day per week in their team meetings to plan for technology integration.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e) All District Training Day. After school &amp; Saturday training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f) We do after school training with follow ups. Most of the materials we train teachers on are cross curricula and can be used the whole year, so teachers can learn on the job. We also will have integration coaches in each building to help support teacher’s integration efforts. We have setup Atomic Learning so teachers can complete a tutorial for CEU credi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 Using staff development days, providing release time for major initiatives, paying for time spent after school (A410 open lab) BUT we really don’t have ample time ☺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h) Nothing very creative.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 Paid after school time, released time. Adding a 2nd integration specialist should also help. Would like building level integration specialis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j) Train the trainer is helpful. If there is a person in your building or on your team you are more willing to ask that person question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k) Atomic Learning, problem log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l) Summer Tech academy - 3 days in augus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 They have given me an hour a day and a fairly flexible schedule to help people with their project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n) Using early release or staff development time, there is never ample time for training with all of the demands for staff time.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o) None -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p) Set times for training that best fit the "student" schedule. (ie After classes for teachers, not on Fridays) Also requiring training to use new technologi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q) Offering before school sessions and going in during prep hour to assist teachers with technology needs. </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456840"/>
            <a:ext cx="84582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 Survey Responses #8</a:t>
            </a:r>
            <a:endParaRPr b="0" lang="en-US" sz="5000" spc="-1" strike="noStrike">
              <a:solidFill>
                <a:srgbClr val="04617b"/>
              </a:solidFill>
              <a:latin typeface="Calibri"/>
            </a:endParaRPr>
          </a:p>
        </p:txBody>
      </p:sp>
      <p:sp>
        <p:nvSpPr>
          <p:cNvPr id="269" name=""/>
          <p:cNvSpPr txBox="1"/>
          <p:nvPr/>
        </p:nvSpPr>
        <p:spPr>
          <a:xfrm>
            <a:off x="228240" y="1218960"/>
            <a:ext cx="8915400" cy="5638680"/>
          </a:xfrm>
          <a:prstGeom prst="rect">
            <a:avLst/>
          </a:prstGeom>
          <a:noFill/>
          <a:ln w="0">
            <a:noFill/>
          </a:ln>
        </p:spPr>
        <p:txBody>
          <a:bodyPr lIns="90000" rIns="90000" tIns="46800" bIns="46800" anchor="t">
            <a:normAutofit/>
          </a:bodyPr>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What strategies has your district used that have successfully created buy-in by all stakeholders?</a:t>
            </a:r>
            <a:endParaRPr b="0" lang="en-US" sz="15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a) ?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b) Provided resources: United Streaming, laptop carts, signing up for loaners, software, wireless net access (backed up training with resources that are applicable to our area)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c) Scale the training to different interest groups (academic areas)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d) </a:t>
            </a:r>
            <a:r>
              <a:rPr b="0" lang="en-US" sz="1000" spc="-1" strike="noStrike" u="sng">
                <a:solidFill>
                  <a:srgbClr val="000000"/>
                </a:solidFill>
                <a:uFillTx/>
                <a:latin typeface="Constantia"/>
              </a:rPr>
              <a:t>Teacher buy-in</a:t>
            </a:r>
            <a:r>
              <a:rPr b="0" lang="en-US" sz="1000" spc="-1" strike="noStrike">
                <a:solidFill>
                  <a:srgbClr val="000000"/>
                </a:solidFill>
                <a:latin typeface="Constantia"/>
              </a:rPr>
              <a:t>: We purchased laptops for all teachers prior to purchasing student laptops. We do not “lock down” the teacher laptops. They are given full manager rights so they can install, configure and experiment. My perception of other schools that prohibit teachers from customizing their laptops is that the teachers learn less about their computers and are hesitant to experiment less they “break” something. </a:t>
            </a:r>
            <a:r>
              <a:rPr b="0" lang="en-US" sz="1000" spc="-1" strike="noStrike" u="sng">
                <a:solidFill>
                  <a:srgbClr val="000000"/>
                </a:solidFill>
                <a:uFillTx/>
                <a:latin typeface="Constantia"/>
              </a:rPr>
              <a:t>Student buy-in</a:t>
            </a:r>
            <a:r>
              <a:rPr b="0" lang="en-US" sz="1000" spc="-1" strike="noStrike">
                <a:solidFill>
                  <a:srgbClr val="000000"/>
                </a:solidFill>
                <a:latin typeface="Constantia"/>
              </a:rPr>
              <a:t>: Students are given meaningful projects that require the creation of products. Drill and tutorials are minimized. Students are given server directories and webpages on which they publish their products. Teachers make use of Web 2.0 tools so students can create an express themselves rather than simply using the computer as a research tool. </a:t>
            </a:r>
            <a:r>
              <a:rPr b="0" lang="en-US" sz="1000" spc="-1" strike="noStrike" u="sng">
                <a:solidFill>
                  <a:srgbClr val="000000"/>
                </a:solidFill>
                <a:uFillTx/>
                <a:latin typeface="Constantia"/>
              </a:rPr>
              <a:t>Parent buy-in</a:t>
            </a:r>
            <a:r>
              <a:rPr b="0" lang="en-US" sz="1000" spc="-1" strike="noStrike">
                <a:solidFill>
                  <a:srgbClr val="000000"/>
                </a:solidFill>
                <a:latin typeface="Constantia"/>
              </a:rPr>
              <a:t>: We published online and distributed via DVD many examples of technology lessons in the classroom so parents could see how the technology is being used in the classroom. Our school has a student/parent portal that displays student assignments, finished projects online, current grades, a file transfer tool and home-school communication tools.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e) Tailoring training for individuals. Requiring technology use in the classroom.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f) Lead by examples. Leader/Teachers use the equipment and other teacher see how effective the this is on student learning. Also, with every technology item bought the 2/3 of the total cost must be for staff development. Teachers see that they have support behind them. Resources to integrate are shared and explained.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g) Models classrooms are a good start. Folks that see what’s there and how it can be used would like to have the same.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h) I don’t think we’ve done a particularly good job of that. We’ve mostly done training around key technologies like email and basic network use. I hope to move beyond that soon, and I’ll be more concerned about buyin then. Overall, I don’t really care that much about convincing naysayers to try technology. I’d rather focus on the ones who are passionate and let them inspire their colleagues.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i) Model classroom, training associated with a specific need.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j) I think the model classrooms create buy-in. People need to see technology at work in order to realize they want that technology. When you see someone using the technology with ease, you are more willing to accept the it.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k) Buy in for what? We like and use technology.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l) Survey of needs, staff suggestions for classes-especially as we upgrade hardware.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m) This district still does a top down management sytle for technology. This strategy has created problems with successfully creating buy-in.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n) Supervisor expecatations for use of technology in job and with students, making technology consistent with updating of hardware and software, use of district website for information and forms, technology support, ect...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o) None.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p) Requiring training to use new technologies. Responding to stakeholders needs.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q) Teachers being able to see a successful classroom environment that is utilizing technology to enhance learning. </a:t>
            </a:r>
            <a:endParaRPr b="0" lang="en-US" sz="1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568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search Questions  </a:t>
            </a:r>
            <a:r>
              <a:rPr b="0" lang="en-US" sz="2000" spc="-1" strike="noStrike">
                <a:solidFill>
                  <a:srgbClr val="04617b"/>
                </a:solidFill>
                <a:latin typeface="Calibri"/>
              </a:rPr>
              <a:t>(cont.)</a:t>
            </a:r>
            <a:endParaRPr b="0" lang="en-US" sz="2000" spc="-1" strike="noStrike">
              <a:solidFill>
                <a:srgbClr val="04617b"/>
              </a:solidFill>
              <a:latin typeface="Calibri"/>
            </a:endParaRPr>
          </a:p>
        </p:txBody>
      </p:sp>
      <p:sp>
        <p:nvSpPr>
          <p:cNvPr id="203" name=""/>
          <p:cNvSpPr txBox="1"/>
          <p:nvPr/>
        </p:nvSpPr>
        <p:spPr>
          <a:xfrm>
            <a:off x="0" y="1676160"/>
            <a:ext cx="9144000" cy="5181480"/>
          </a:xfrm>
          <a:prstGeom prst="rect">
            <a:avLst/>
          </a:prstGeom>
          <a:noFill/>
          <a:ln w="0">
            <a:noFill/>
          </a:ln>
        </p:spPr>
        <p:txBody>
          <a:bodyPr lIns="90000" rIns="90000" tIns="46800" bIns="46800" anchor="t">
            <a:normAutofit/>
          </a:bodyPr>
          <a:p>
            <a:pPr marL="65088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you train all stakeholders on multiple tools so that all can be seamlessly integrated? Often this seems counter to training on more educational aspects. </a:t>
            </a:r>
            <a:endParaRPr b="0" lang="en-US" sz="2600" spc="-1" strike="noStrike">
              <a:solidFill>
                <a:srgbClr val="000000"/>
              </a:solidFill>
              <a:latin typeface="Constantia"/>
            </a:endParaRPr>
          </a:p>
          <a:p>
            <a:pPr marL="65088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you get non-tech people interested in the process at all, when it will affect their daily lives? </a:t>
            </a:r>
            <a:endParaRPr b="0" lang="en-US" sz="2600" spc="-1" strike="noStrike">
              <a:solidFill>
                <a:srgbClr val="000000"/>
              </a:solidFill>
              <a:latin typeface="Constantia"/>
            </a:endParaRPr>
          </a:p>
          <a:p>
            <a:pPr marL="65088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you get teachers who are feeling pressed for time and overworked to get excited and motivated to integrate new technology into the classroom? </a:t>
            </a:r>
            <a:endParaRPr b="0" lang="en-US" sz="2600" spc="-1" strike="noStrike">
              <a:solidFill>
                <a:srgbClr val="000000"/>
              </a:solidFill>
              <a:latin typeface="Constantia"/>
            </a:endParaRPr>
          </a:p>
          <a:p>
            <a:pPr marL="65088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instructors stay current on copyright and privacy issues affected by new technology?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ta Gathering Technique</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order to determine the state of technology training and effectiveness in the state of MN, we decided to survey a number of different school districts in the Metro and Outstate areas.  </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IMELINE:</a:t>
            </a:r>
            <a:endParaRPr b="0" lang="en-US" sz="2100" spc="-1" strike="noStrike">
              <a:solidFill>
                <a:srgbClr val="000000"/>
              </a:solidFill>
              <a:latin typeface="Constantia"/>
            </a:endParaRPr>
          </a:p>
          <a:p>
            <a:pPr lvl="3" marL="1187280" indent="-209520">
              <a:spcBef>
                <a:spcPts val="499"/>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28/07 Initial Questions posed</a:t>
            </a:r>
            <a:endParaRPr b="0" lang="en-US" sz="2000" spc="-1" strike="noStrike">
              <a:solidFill>
                <a:srgbClr val="000000"/>
              </a:solidFill>
              <a:latin typeface="Constantia"/>
            </a:endParaRPr>
          </a:p>
          <a:p>
            <a:pPr lvl="3" marL="1187280" indent="-209520">
              <a:spcBef>
                <a:spcPts val="499"/>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5/07  Research &amp; Survey Development</a:t>
            </a:r>
            <a:endParaRPr b="0" lang="en-US" sz="2000" spc="-1" strike="noStrike">
              <a:solidFill>
                <a:srgbClr val="000000"/>
              </a:solidFill>
              <a:latin typeface="Constantia"/>
            </a:endParaRPr>
          </a:p>
          <a:p>
            <a:pPr lvl="3" marL="1187280" indent="-209520">
              <a:spcBef>
                <a:spcPts val="499"/>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2/07  Survey various MN districts</a:t>
            </a:r>
            <a:endParaRPr b="0" lang="en-US" sz="2000" spc="-1" strike="noStrike">
              <a:solidFill>
                <a:srgbClr val="000000"/>
              </a:solidFill>
              <a:latin typeface="Constantia"/>
            </a:endParaRPr>
          </a:p>
          <a:p>
            <a:pPr lvl="3" marL="1187280" indent="-209520">
              <a:spcBef>
                <a:spcPts val="499"/>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23/07  Compile data and analysis</a:t>
            </a:r>
            <a:endParaRPr b="0" lang="en-US" sz="2000" spc="-1" strike="noStrike">
              <a:solidFill>
                <a:srgbClr val="000000"/>
              </a:solidFill>
              <a:latin typeface="Constantia"/>
            </a:endParaRPr>
          </a:p>
          <a:p>
            <a:pPr lvl="3" marL="1187280" indent="-209520">
              <a:spcBef>
                <a:spcPts val="499"/>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30/07  Prepare findings for presentation</a:t>
            </a:r>
            <a:endParaRPr b="0" lang="en-US" sz="20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2895480" y="-533520"/>
            <a:ext cx="6248520" cy="8255160"/>
          </a:xfrm>
          <a:prstGeom prst="rect">
            <a:avLst/>
          </a:prstGeom>
          <a:ln w="0">
            <a:noFill/>
          </a:ln>
        </p:spPr>
      </p:pic>
      <p:sp>
        <p:nvSpPr>
          <p:cNvPr id="207" name="TextBox 6"/>
          <p:cNvSpPr/>
          <p:nvPr/>
        </p:nvSpPr>
        <p:spPr>
          <a:xfrm rot="19170000">
            <a:off x="286920" y="2409480"/>
            <a:ext cx="38052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Survey Development</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704520"/>
            <a:ext cx="76201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sponding Districts:</a:t>
            </a:r>
            <a:endParaRPr b="0" lang="en-US" sz="5000" spc="-1" strike="noStrike">
              <a:solidFill>
                <a:srgbClr val="04617b"/>
              </a:solidFill>
              <a:latin typeface="Calibri"/>
            </a:endParaRPr>
          </a:p>
        </p:txBody>
      </p:sp>
      <p:sp>
        <p:nvSpPr>
          <p:cNvPr id="209" name=""/>
          <p:cNvSpPr txBox="1"/>
          <p:nvPr/>
        </p:nvSpPr>
        <p:spPr>
          <a:xfrm>
            <a:off x="1752480" y="1935000"/>
            <a:ext cx="6934320" cy="4694400"/>
          </a:xfrm>
          <a:prstGeom prst="rect">
            <a:avLst/>
          </a:prstGeom>
          <a:noFill/>
          <a:ln w="0">
            <a:noFill/>
          </a:ln>
        </p:spPr>
        <p:txBody>
          <a:bodyPr lIns="90000" rIns="90000" tIns="46800" bIns="46800" anchor="t">
            <a:normAutofit fontScale="98000"/>
          </a:bodyPr>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bert Lea Public School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ustin Public School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uffalo-Hanover-Montrose Public School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trict 930 (Carver-Scott Ed. Coop.)</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keville Public School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lymouth Public School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illwater Public School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ayzata Public School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stonka Public School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nona Public School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How do district’s build trainings that support new technologies?</a:t>
            </a:r>
            <a:endParaRPr b="0" lang="en-US" sz="3600" spc="-1" strike="noStrike">
              <a:solidFill>
                <a:srgbClr val="04617b"/>
              </a:solidFill>
              <a:latin typeface="Calibri"/>
            </a:endParaRPr>
          </a:p>
        </p:txBody>
      </p:sp>
      <p:sp>
        <p:nvSpPr>
          <p:cNvPr id="211" name=""/>
          <p:cNvSpPr txBox="1"/>
          <p:nvPr/>
        </p:nvSpPr>
        <p:spPr>
          <a:xfrm>
            <a:off x="838080" y="1934640"/>
            <a:ext cx="784872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ff Development/Technology Da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fter school cour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teacher train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omic Learn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mmer training sess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er-trainer mod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ut of district training (ex. TIES coo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TextBox 3"/>
          <p:cNvSpPr/>
          <p:nvPr/>
        </p:nvSpPr>
        <p:spPr>
          <a:xfrm>
            <a:off x="5562720" y="57913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rvey Summary #1</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What percentage of trainings are in-house?</a:t>
            </a:r>
            <a:endParaRPr b="0" lang="en-US" sz="3600" spc="-1" strike="noStrike">
              <a:solidFill>
                <a:srgbClr val="04617b"/>
              </a:solidFill>
              <a:latin typeface="Calibri"/>
            </a:endParaRPr>
          </a:p>
        </p:txBody>
      </p:sp>
      <p:sp>
        <p:nvSpPr>
          <p:cNvPr id="214" name=""/>
          <p:cNvSpPr txBox="1"/>
          <p:nvPr/>
        </p:nvSpPr>
        <p:spPr>
          <a:xfrm>
            <a:off x="838080" y="1934640"/>
            <a:ext cx="784872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ange from 75% - 10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verage 91.6%</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TextBox 3"/>
          <p:cNvSpPr/>
          <p:nvPr/>
        </p:nvSpPr>
        <p:spPr>
          <a:xfrm>
            <a:off x="5562720" y="57913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rvey Summary #2</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2:51:01Z</dcterms:created>
  <dc:creator>chaugen</dc:creator>
  <dc:description/>
  <dc:language>en-US</dc:language>
  <cp:lastModifiedBy>chaugen</cp:lastModifiedBy>
  <dcterms:modified xsi:type="dcterms:W3CDTF">2007-04-30T16:24:10Z</dcterms:modified>
  <cp:revision>26</cp:revision>
  <dc:subject/>
  <dc:title>Training Methods &amp; Effectiveness</dc:title>
</cp:coreProperties>
</file>